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CC5-64A2-4966-AC72-60CA75E1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60A-39BF-4670-A2A8-83501E2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FB2-AB71-44E4-8D17-CB70EC85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EEB-4DFA-40D4-94AB-7849D2E4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2831-51D1-4288-90DA-77C3BCFA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6766-CEB0-4E54-97B1-4E130F35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0402-D5C6-4C75-8F03-0A7641E3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30F-5FA0-48DB-B340-EAD9646C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C3F-ABA2-4F43-A6A4-2ED8FEDA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112D-407F-4613-BAFF-D5F72734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9A99-3748-4E37-83D8-57DF7B6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8DC-A644-482E-92FC-CB99861C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0D08-E011-49B2-902F-E1716559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E94-1863-4913-9BA1-402EB103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BB29-4F14-41E8-B119-80565255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32B7-19CF-4B2A-8325-4DC8E22A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6111-EB7B-4FCA-BE64-2E37C8E9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589-4AF5-4F47-A696-45DB2C19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9A4-4BCB-4E35-9E2D-A6E38657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4AF-A25F-44AC-B24D-91B30034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CF5-30EF-4C14-BC38-53BB85B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EA6-A469-4B56-A503-232D949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751-CC96-4D22-AE8E-DABEB85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14F-6195-486D-A8F5-14E1BD1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6848-E572-48DC-96CE-CDA751A92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FCAD-EEEC-4A5F-93AD-270BEA1177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90560" y="27792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d80"/>
                </a:solidFill>
                <a:latin typeface="Arial"/>
              </a:rPr>
              <a:t>Город Выкса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2" name="Picture 4" descr="Coat of Arms of Vyksa (Nizhny Novgorod oblast) (1984).png"/>
          <p:cNvPicPr/>
          <p:nvPr/>
        </p:nvPicPr>
        <p:blipFill>
          <a:blip r:embed="rId1"/>
          <a:stretch/>
        </p:blipFill>
        <p:spPr>
          <a:xfrm>
            <a:off x="304920" y="152280"/>
            <a:ext cx="1904760" cy="2286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13871318481457"/>
          <p:cNvPicPr/>
          <p:nvPr/>
        </p:nvPicPr>
        <p:blipFill>
          <a:blip r:embed="rId2"/>
          <a:stretch/>
        </p:blipFill>
        <p:spPr>
          <a:xfrm>
            <a:off x="2438280" y="1600200"/>
            <a:ext cx="647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5257800" cy="15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d8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7d80"/>
                </a:solidFill>
                <a:latin typeface="Arial"/>
              </a:rPr>
              <a:t>Верхний пруд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1218234"/>
          <p:cNvPicPr/>
          <p:nvPr/>
        </p:nvPicPr>
        <p:blipFill>
          <a:blip r:embed="rId1"/>
          <a:stretch/>
        </p:blipFill>
        <p:spPr>
          <a:xfrm>
            <a:off x="1066680" y="22860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1367590922_untitled-1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009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vyksa_prud_167"/>
          <p:cNvPicPr/>
          <p:nvPr/>
        </p:nvPicPr>
        <p:blipFill>
          <a:blip r:embed="rId3"/>
          <a:stretch/>
        </p:blipFill>
        <p:spPr>
          <a:xfrm>
            <a:off x="228600" y="327672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d80"/>
                </a:solidFill>
                <a:latin typeface="Arial"/>
              </a:rPr>
              <a:t>Памятник братьям Баташевым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122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d80"/>
                </a:solidFill>
                <a:latin typeface="Arial"/>
              </a:rPr>
              <a:t>Вечный огонь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1228755436_foto-vyksa-3"/>
          <p:cNvPicPr/>
          <p:nvPr/>
        </p:nvPicPr>
        <p:blipFill>
          <a:blip r:embed="rId1"/>
          <a:stretch/>
        </p:blipFill>
        <p:spPr>
          <a:xfrm>
            <a:off x="762120" y="12193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d80"/>
                </a:solidFill>
                <a:latin typeface="Arial"/>
              </a:rPr>
              <a:t>Выкса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4fc09e32e4b45"/>
          <p:cNvPicPr/>
          <p:nvPr/>
        </p:nvPicPr>
        <p:blipFill>
          <a:blip r:embed="rId1"/>
          <a:stretch/>
        </p:blipFill>
        <p:spPr>
          <a:xfrm>
            <a:off x="304920" y="914400"/>
            <a:ext cx="8572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d80"/>
                </a:solidFill>
                <a:latin typeface="Arial"/>
              </a:rPr>
              <a:t>Выксунский парк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gal626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d80"/>
                </a:solidFill>
                <a:latin typeface="Arial"/>
              </a:rPr>
              <a:t>Дом-музей братьев Баташевых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vyksa_ploschad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d80"/>
                </a:solidFill>
                <a:latin typeface="Arial"/>
              </a:rPr>
              <a:t>Площадь металлургов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pic_full"/>
          <p:cNvPicPr/>
          <p:nvPr/>
        </p:nvPicPr>
        <p:blipFill>
          <a:blip r:embed="rId1"/>
          <a:stretch/>
        </p:blipFill>
        <p:spPr>
          <a:xfrm>
            <a:off x="304920" y="1219320"/>
            <a:ext cx="85723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0" y="609120"/>
            <a:ext cx="3657600" cy="200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d80"/>
                </a:solidFill>
                <a:latin typeface="Arial"/>
              </a:rPr>
              <a:t>ВМЗ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3248054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3047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tr4"/>
          <p:cNvPicPr/>
          <p:nvPr/>
        </p:nvPicPr>
        <p:blipFill>
          <a:blip r:embed="rId2"/>
          <a:stretch/>
        </p:blipFill>
        <p:spPr>
          <a:xfrm>
            <a:off x="4343400" y="3505320"/>
            <a:ext cx="4600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1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Файл:Vyksa Shukhov tower.ogv"/>
          <p:cNvPicPr/>
          <p:nvPr/>
        </p:nvPicPr>
        <p:blipFill>
          <a:blip r:embed="rId1"/>
          <a:stretch/>
        </p:blipFill>
        <p:spPr>
          <a:xfrm>
            <a:off x="1219320" y="685800"/>
            <a:ext cx="6676920" cy="4108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3048120" y="5382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d80"/>
                </a:solidFill>
                <a:latin typeface="Arial"/>
              </a:rPr>
              <a:t>Башня Шухова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d80"/>
                </a:solidFill>
                <a:latin typeface="Arial"/>
              </a:rPr>
              <a:t>Христо - Рождественская церковь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6" name="Picture 4" descr="чисимч"/>
          <p:cNvPicPr/>
          <p:nvPr/>
        </p:nvPicPr>
        <p:blipFill>
          <a:blip r:embed="rId1"/>
          <a:stretch/>
        </p:blipFill>
        <p:spPr>
          <a:xfrm>
            <a:off x="1295280" y="1295280"/>
            <a:ext cx="6629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17:08:16Z</dcterms:created>
  <dc:creator>Светлана</dc:creator>
  <dc:description/>
  <dc:language>en-US</dc:language>
  <cp:lastModifiedBy>Svetlana</cp:lastModifiedBy>
  <dcterms:modified xsi:type="dcterms:W3CDTF">2025-05-29T23:54:3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